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9266-38F0-4CDD-96E0-904F9A633D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6353-86AF-489D-AB1F-7B4067EF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76BC-CA83-437D-B2C0-1A270C7C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E04D-63F5-4C37-8534-D32F58BB1C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EA75-DD8E-45CC-A126-3939FACB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51EE-D09A-4935-AB51-1A0A5235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CA8E-93C4-4FF2-BBAB-7C94EFAB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B3EDD-910C-43A1-999D-6F76FE68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304560"/>
            <a:ext cx="6072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F367-6894-48F1-96B4-4FED1B56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2B77-C3FA-47F9-8BC1-00EF5296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3869-0016-4923-97E8-65C4FEF7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95560"/>
            <a:ext cx="6072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902F-47E8-4092-891A-97287443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EC7D-136D-4F7B-AF77-564829A10F6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Click to edit the outline text format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46c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con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Third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楷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our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Fif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ix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楷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5b8d"/>
                </a:solidFill>
                <a:latin typeface="楷体"/>
              </a:rPr>
              <a:t>Seventh Outline Level</a:t>
            </a:r>
            <a:endParaRPr b="1" lang="en-US" sz="28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6499080" y="6245280"/>
            <a:ext cx="2076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14606284-30E0-4C78-8B30-B099F6032AC8}" type="slidenum">
              <a:rPr b="0" lang="en-US" sz="13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2464920"/>
            <a:ext cx="54720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治疗消化性溃疡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楷体"/>
              </a:rPr>
              <a:t>和胃炎药物</a:t>
            </a:r>
            <a:endParaRPr b="0" lang="en-US" sz="5400" spc="-1" strike="noStrike">
              <a:solidFill>
                <a:srgbClr val="ffffff"/>
              </a:solidFill>
              <a:latin typeface="楷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硫糖铝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酸性环境中形成粘稠物质覆盖于溃疡表面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选择性与坏死的溃疡组织结合，与溃疡面的亲和力高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对十二指肠溃疡疗效更佳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干、恶心等；起效后应连续服用数月，以免复发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饭前 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小时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与西咪替丁合用会降低本药的疗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四、前列腺素类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米索前列醇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口服吸收良好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基础胃酸和刺激后胃酸分泌均显著降低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增加黏膜血流，促进溃疡面愈合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稀便或腹泻，停药后好转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，印刻引起妊娠子宫收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脑血管及冠状动脉病变患者慎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71640" indent="-514440"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服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71600" indent="-51444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五、抗幽门螺杆菌的治疗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原则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根除率高，不良反应小，疗程短，价格合理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方案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质子泵抑制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铋剂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两种抗菌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六、胃肠动力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08000" y="1371600"/>
          <a:ext cx="9036000" cy="2473200"/>
        </p:xfrm>
        <a:graphic>
          <a:graphicData uri="http://schemas.openxmlformats.org/drawingml/2006/table">
            <a:tbl>
              <a:tblPr/>
              <a:tblGrid>
                <a:gridCol w="1379520"/>
                <a:gridCol w="3138480"/>
                <a:gridCol w="1849320"/>
                <a:gridCol w="2668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常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多潘立酮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吗丁啉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作用于胃肠道的多巴胺受体；促进胃排空，协调偶们运动；口服生物利用度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干、皮疹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促进催乳素分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抗酸剂和胃酸分泌抑制药不宜与本要同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餐前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5~3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分钟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西沙必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普瑞博思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全胃肠道动力药，协调胃肠功能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瞬时性胃肠痉挛，腹鸣或腹泻；过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、肝肾功能不全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消化性溃疡和胃炎发生的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、胃蛋白酶等侵袭因素增强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液屏障等保护性因素减弱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治疗消化性溃疡和胃炎的常用药物分类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抗酸药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酸分泌抑制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胃黏膜保护剂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前列腺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中和胃酸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促进止血和预防出血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marL="514440" indent="-514440">
              <a:spcBef>
                <a:spcPts val="799"/>
              </a:spcBef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常用药物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碳酸氢钠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非吸收性</a:t>
            </a:r>
            <a:r>
              <a:rPr b="0" lang="en-US" sz="2800" spc="-1" strike="noStrike">
                <a:solidFill>
                  <a:srgbClr val="046ca6"/>
                </a:solidFill>
                <a:latin typeface="楷体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铝碳酸镁、氢氧化铝凝胶等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一、抗酸药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8000" y="2114640"/>
          <a:ext cx="9004320" cy="3114720"/>
        </p:xfrm>
        <a:graphic>
          <a:graphicData uri="http://schemas.openxmlformats.org/drawingml/2006/table">
            <a:tbl>
              <a:tblPr/>
              <a:tblGrid>
                <a:gridCol w="1150920"/>
                <a:gridCol w="2332080"/>
                <a:gridCol w="2060640"/>
                <a:gridCol w="2232000"/>
                <a:gridCol w="122868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用法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碳酸氢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易吸收，迅速中和胃酸，可碱化尿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生大量二氧化碳，增加胃内压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充血性心力衰竭、肾衰竭这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一般饭前半小时到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片剂嚼碎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混悬剂混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氢氧化铝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弱而慢；可保护溃疡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便秘；肾功能不全者易致血铝升高；妨碍磷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与三硅酸镁等交替用可预防便秘；肾功能不全者、骨折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铝碳酸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抗酸作用快而持久；可抑制胃蛋白酶利于溃疡面修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道不适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胃肠蠕动不良者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受体拮抗剂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阻断胃壁细胞组胺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楷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受体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基础和夜间的胃酸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一代：西咪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二代：雷尼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三代：法莫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第四代：尼扎替丁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 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8000" y="1371600"/>
          <a:ext cx="9004320" cy="3389400"/>
        </p:xfrm>
        <a:graphic>
          <a:graphicData uri="http://schemas.openxmlformats.org/drawingml/2006/table">
            <a:tbl>
              <a:tblPr/>
              <a:tblGrid>
                <a:gridCol w="1224000"/>
                <a:gridCol w="2378160"/>
                <a:gridCol w="1800000"/>
                <a:gridCol w="1801800"/>
                <a:gridCol w="1800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药物名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服用注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西咪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泰胃美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口服于小肠吸收；生物利用度高；广泛分布于全身组织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腹泻；可通过胎盘屏障；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宜用于孕妇和哺乳期女性；监测血象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不予抗酸药同福或二者至少间隔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小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雷尼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5~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，迅速起效维持作用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可有面热、头晕等神经系统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、婴儿和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岁以下儿童禁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饭前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法莫替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（高舒达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作用较西咪替丁强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30~100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倍；体内分布广，不透过胎盘屏障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孕妇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哺乳期妇女使用时应停止哺乳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静脉给药应缓慢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药理作用和作用机制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不可逆阻断分泌胃酸的膜泵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H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K</a:t>
            </a:r>
            <a:r>
              <a:rPr b="0" lang="en-US" sz="2400" spc="-1" strike="noStrike" baseline="30000">
                <a:solidFill>
                  <a:srgbClr val="046ca6"/>
                </a:solidFill>
                <a:latin typeface="楷体"/>
              </a:rPr>
              <a:t>+</a:t>
            </a:r>
            <a:r>
              <a:rPr b="0" lang="en-US" sz="2400" spc="-1" strike="noStrike">
                <a:solidFill>
                  <a:srgbClr val="046ca6"/>
                </a:solidFill>
                <a:latin typeface="楷体"/>
              </a:rPr>
              <a:t>-ATP</a:t>
            </a: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酶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减少胃蛋白酶分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spcBef>
                <a:spcPts val="700"/>
              </a:spcBef>
              <a:buClr>
                <a:srgbClr val="0070c0"/>
              </a:buClr>
              <a:buFont typeface="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代表药物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spcBef>
                <a:spcPts val="601"/>
              </a:spcBef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奥美拉唑，兰索拉唑，潘妥拉唑等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二、胃酸分泌抑制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楷体"/>
              </a:rPr>
              <a:t>（二）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质子泵抑制剂剂（</a:t>
            </a:r>
            <a:r>
              <a:rPr b="1" lang="en-US" sz="3200" spc="-1" strike="noStrike">
                <a:solidFill>
                  <a:srgbClr val="046ca6"/>
                </a:solidFill>
                <a:latin typeface="楷体"/>
              </a:rPr>
              <a:t>PPI</a:t>
            </a: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）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8000" y="2565360"/>
          <a:ext cx="8640720" cy="1924200"/>
        </p:xfrm>
        <a:graphic>
          <a:graphicData uri="http://schemas.openxmlformats.org/drawingml/2006/table">
            <a:tbl>
              <a:tblPr/>
              <a:tblGrid>
                <a:gridCol w="1368360"/>
                <a:gridCol w="1582920"/>
                <a:gridCol w="2089080"/>
                <a:gridCol w="360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代表药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作用特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监护须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奥美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洛赛克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经典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PI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；口服后小肠吸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头痛、恶心、呕吐等；长期服用可导致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缺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孕妇、哺乳期妇女慎用；长期使用者应监测血维生素</a:t>
                      </a:r>
                      <a:r>
                        <a:rPr b="0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B</a:t>
                      </a:r>
                      <a:r>
                        <a:rPr b="0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水平；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可咀嚼或倾出内容物服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兰索拉唑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达克普隆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抑酸作用强而持久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皮疹、肝功能损害、消化道反应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肝肾功能不全者、孕妇、哺乳期妇女慎用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916360" y="304560"/>
            <a:ext cx="5999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"/>
              </a:rPr>
              <a:t>三、黏膜保护剂</a:t>
            </a:r>
            <a:endParaRPr b="0" lang="en-US" sz="3600" spc="-1" strike="noStrike">
              <a:solidFill>
                <a:srgbClr val="ffffff"/>
              </a:solidFill>
              <a:latin typeface="楷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buClr>
                <a:srgbClr val="ddb523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"/>
              </a:rPr>
              <a:t>枸橼酸铋钾</a:t>
            </a:r>
            <a:endParaRPr b="1" lang="en-US" sz="3200" spc="-1" strike="noStrike">
              <a:solidFill>
                <a:srgbClr val="035b8d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作用特点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在酸性环境中于溃疡面形成一氧化铋胶体薄膜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次级内源性前列腺素释放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抑制幽门螺杆菌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不良反应和监护须知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舌、粪便等黑染；应告知患者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便秘；多于停药后消失，可联合使用通便药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孕妇禁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1" marL="914400" indent="-514440">
              <a:buClr>
                <a:srgbClr val="0070c0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"/>
              </a:rPr>
              <a:t>使用注意</a:t>
            </a:r>
            <a:endParaRPr b="0" lang="en-US" sz="28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餐前或睡前服用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  <a:p>
            <a:pPr lvl="2" marL="1314360" indent="-514080">
              <a:buClr>
                <a:srgbClr val="046ca6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"/>
              </a:rPr>
              <a:t>服药前后半小时不要进食牛奶或其他高蛋白食物</a:t>
            </a:r>
            <a:endParaRPr b="0" lang="en-US" sz="2400" spc="-1" strike="noStrike">
              <a:solidFill>
                <a:srgbClr val="046ca6"/>
              </a:solidFill>
              <a:latin typeface="楷体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2:51:58Z</dcterms:modified>
  <cp:revision>4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